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1E40-02D4-4D55-BA74-383F92A4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46F1-2ACA-4DF3-BF4E-F840A11B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A1E1-9BF3-4150-B6A6-D37970DD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6E98-2A2C-488A-A2FC-2633BB88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07A-219E-41C3-8A3C-2D373935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1CF-12FF-44A8-BF15-ABFFF797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C22C-24DE-43A4-AAF4-E0E2DBFD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D587-41EF-4020-A849-8000DA65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0430-66F7-4550-ADFB-47073863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50D2-F8AC-4C51-81C1-1C19021F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C76-65E8-41CB-B3D4-0207262E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597-6091-43E9-AA10-51740870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A12F-C542-4FC2-A2F7-19BF0D72D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352680" y="0"/>
            <a:ext cx="5410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oat tries to cross a 100 m wide river. The boat’s engine can move it at 2 m/s and the river flows at 5 m/s. Find the  resultant velocity, trajectory  displacement aof the boat and time to cross the ri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3"/>
          <p:cNvSpPr/>
          <p:nvPr/>
        </p:nvSpPr>
        <p:spPr>
          <a:xfrm>
            <a:off x="1219320" y="76212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4"/>
          <p:cNvSpPr/>
          <p:nvPr/>
        </p:nvSpPr>
        <p:spPr>
          <a:xfrm>
            <a:off x="3124080" y="76212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371600" y="228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276720" y="3048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river = 5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143000" y="2514600"/>
            <a:ext cx="457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304920" y="19810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o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380880" y="1981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320040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352680" y="0"/>
            <a:ext cx="5410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oat tries to cross a 100 m wide river. The boat’s engine can move it at 2 m/s and the river flows at 5 m/s. Find the  resultant velocity, trajectory  displacement aof the boat and time to cross the ri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3"/>
          <p:cNvSpPr/>
          <p:nvPr/>
        </p:nvSpPr>
        <p:spPr>
          <a:xfrm>
            <a:off x="1219320" y="76212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3124080" y="76212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371600" y="228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276720" y="3048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river = 5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143000" y="2514600"/>
            <a:ext cx="457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04920" y="19810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o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380880" y="1981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320040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3:52:49Z</dcterms:created>
  <dc:creator>socsd</dc:creator>
  <dc:description/>
  <dc:language>en-US</dc:language>
  <cp:lastModifiedBy>"%username%"</cp:lastModifiedBy>
  <cp:lastPrinted>2014-11-07T15:23:38Z</cp:lastPrinted>
  <dcterms:modified xsi:type="dcterms:W3CDTF">2014-11-07T15:23:53Z</dcterms:modified>
  <cp:revision>5</cp:revision>
  <dc:subject/>
  <dc:title>PowerPoint Presentation</dc:title>
</cp:coreProperties>
</file>